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D12-BD03-44B3-9D89-A959BB55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EE8A-B629-4D0B-81A2-E8145087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C18-4D47-4D6B-BF25-A188597F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55E-1DB4-4495-BAC6-B786FED1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4696-493B-4292-ABB2-5604C8CE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237-2106-4E74-B25F-EF7ACBA8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0EC4-D9CE-429D-B0D6-03D368EC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6488-A612-4C48-9417-8A3C8CFF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3FEE-AB0E-4A90-85C7-0B7D82DF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43E6-3C07-4BD8-9609-7C2F1AF7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C133-AE6A-4A17-B331-15F57C1A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64FE-55A0-402F-A4E4-DD8180A5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527400" indent="-2026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2" marL="811440" indent="-16200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3" marL="1135800" indent="-1620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4" marL="1460520" indent="-162000">
              <a:spcBef>
                <a:spcPts val="799"/>
              </a:spcBef>
              <a:buClr>
                <a:srgbClr val="3333cc"/>
              </a:buClr>
              <a:buFont typeface="Tahom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5" marL="1460520" indent="-162000">
              <a:spcBef>
                <a:spcPts val="799"/>
              </a:spcBef>
              <a:buClr>
                <a:srgbClr val="000000"/>
              </a:buClr>
              <a:buFont typeface="Tahom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6" marL="1460520" indent="-162000">
              <a:spcBef>
                <a:spcPts val="799"/>
              </a:spcBef>
              <a:buClr>
                <a:srgbClr val="000000"/>
              </a:buClr>
              <a:buFont typeface="Tahom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55520" y="5891040"/>
            <a:ext cx="8836200" cy="835200"/>
            <a:chOff x="155520" y="5891040"/>
            <a:chExt cx="8836200" cy="8352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155520" y="5891040"/>
              <a:ext cx="144468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1523880" y="6670800"/>
              <a:ext cx="7467840" cy="0"/>
            </a:xfrm>
            <a:prstGeom prst="line">
              <a:avLst/>
            </a:prstGeom>
            <a:ln w="19080">
              <a:solidFill>
                <a:srgbClr val="0080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-27360" y="6618240"/>
            <a:ext cx="50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ahoma"/>
              </a:rPr>
              <a:t>Copyright © 2003 Center for Farm Financial Management, University of Minneso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705720" y="5943600"/>
            <a:ext cx="21333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20B9-9520-4F47-9C78-C29E1C580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Your lender wants to know if your business will be financially successful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91600" y="3733920"/>
            <a:ext cx="66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Your spouse wants to know t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alance Shee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 snapshot of how funds are invested in a business (assets) and the financing methods used (liabilities and owner’s equity) at a given point in time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alance Shee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ost producers have an existing balance sheet because lenders require one annually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f you need to develop or update your balance sheet you can use FINPACK or use the Guide workshee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come Stat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n income statement measures how much income the business is making in relation to the resources used to produce that income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come Stat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Not all producers have an accrual income statemen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hould develop one for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Can use FINPACK or the Guide workshee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sh Flow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 cash flow plan is a projection of all sources and uses of cash during a specified planning period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t evaluates the business’s ability to meet loan payments and other financial obligations on time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sh Flow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ost producers have an annual cash flow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f you need to develop or update your cash flow plan you can use FINPACK or use the Guide workshee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nclude a balance sheet, income statement, and cash flow plan in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0816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 written description of the strengths of these three measurements of your financial projections should also be included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lso describe the assumptions you used to make your financial projections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Your Financial Number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Generating your financial statements from  a program like FINPACK will make development of your business plan easier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NPACK provides not only a balance sheet, income statement, and cash flow, but also financial ratios to help evaluate the meaning of your financial numbers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sset Manag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Your financial plan should also describe how you acquire and manage capital assets - purchase, lease, or custom hire.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How efficiently are assets being used?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9340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n many cases, the financial plan is the most important part of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e financial plan is particularly important if you are proposing a major change or a new business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sset Manag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n analysis of your investment in capital assets relative to the size of your business may be valuable as you plan the future of your business.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sset management is often the best indicator of future net worth growth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pital Required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e final part of your financial plan should describe how much money you need to implement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Describe the sources of your financing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Present your financing request if you have one.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sourc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Guide worksheet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alance sheet – worksheet 4.35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rojected profitability - worksheet 4.33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sh flow – worksheet 4.34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sourc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NPACK Business Plan software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alance sheet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Asset management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rojected profitabil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sh flow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Long range projections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Historical trends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enchmarks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pital required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What do you need to include in your business plan to communicate financial viability?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nancial viability is generally evaluated from three perspectives: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Solvenc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rofitabil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Liquid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olvency evaluates changes in net worth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wth in your retirement account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Profitability monitor earning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ability to generate income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Liquidity estimates cash flow and debt repayment ability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aying the bills when due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olvenc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Compares the assets invested (what you own) in the business with the sources of capital (liabilities – what you owe and your net worth)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Requires an up to date balance sheet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fitabil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easures the earnings of the busines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Requires an accrual income statement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Optionally use average net income from 3 years Schedule F tax form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iquid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easures the ability of the business to generate cash to meet short term obligation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Requires a cash flow statement, usually projected for next year or more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e tools used to communicate a  business’s financial situation are: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alance sheet - solvenc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Income statement - profitabil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sh flow plan – liquid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20:27:03Z</dcterms:created>
  <dc:creator>Applied Economics</dc:creator>
  <dc:description/>
  <dc:language>en-US</dc:language>
  <cp:lastModifiedBy>M S O</cp:lastModifiedBy>
  <cp:lastPrinted>2001-06-07T14:32:23Z</cp:lastPrinted>
  <dcterms:modified xsi:type="dcterms:W3CDTF">2008-10-19T18:36:21Z</dcterms:modified>
  <cp:revision>193</cp:revision>
  <dc:subject/>
  <dc:title>No Slide Title</dc:title>
</cp:coreProperties>
</file>